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8D4-A637-4672-9EDE-D2FD33581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E4B-338C-4C33-93A0-B6AD8BDB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971-C845-4124-955A-622484AD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E08F-A32C-4ED4-A26F-79E54658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078-B2C4-4242-A77B-E3BE1699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7ED-CAE0-4368-B638-6D5A14BB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93CD-AD97-4711-B9FB-0E25E252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0E9-042E-46C3-BE95-A98F9CA4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0E1-9ADF-4E34-B390-4731C8EB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043-2379-4879-BF1E-217BCF1C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F47-8A9E-4866-96B6-8817D907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E04-AFD7-4969-BE6C-AAB58F3B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37D-01F5-45A5-9ABC-BBB477B3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009-B104-4C7D-85A5-27A3BE77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3B8D-EE39-4DAE-87C8-B7931768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329-CF73-48E6-A74D-BA784F25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D3B-A8D1-47C3-9791-AC884578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1181-22C7-4EFA-8F1F-C188BE994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138-B0A2-4A69-A5F6-B1B93B9A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760-9B1B-4652-9FAF-98A35BB68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EF4-0C32-42CA-8F13-953E4147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B09-5846-476C-B445-53B345AD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B11-4F3D-486C-A81B-C9A79EE9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B9A-ACFE-41F3-B4A5-1C7FB53B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D9F-A6C3-46AB-902C-F6C5B229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4FC-A701-4D08-A5CB-993E4DCF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DE5-524C-442B-A29E-36F6472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0EF-1073-433E-A7D7-DD5D119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B70-B764-42F2-82D9-8FB310D2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400-FC13-45A1-B3ED-A35E4906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190-D3AA-4DDC-BA92-CE32FEB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36D-9C82-4147-AA3E-D3C8D10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1D2A-1D6E-47DF-A065-259AA67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4EA-2DA7-412D-A1AC-320B3A8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C86C-8D1D-4C18-8FBC-004EA5D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655-61A2-428B-8668-1937A8C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373-E48B-4741-9DCC-DA2F8CF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EE7-561E-40A2-B9D2-AACA9E4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2E0-7DDA-4EBB-9EDD-263CA79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93B1-465E-4FA8-B658-36DBB5D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07F-2717-44F8-B274-4884F2A2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B978-9D78-47B9-A97A-FAD76452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EA55-82F5-4950-8196-85C07E08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E31A-8538-4494-BBFB-69442B56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410B-47B8-4F21-9308-149CB7F2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9F5D-2A1E-4430-8C21-1F133BC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7F9F-5786-42D7-B1B5-1214375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603-8F4F-443F-AB14-5AC4EC3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B78F-C507-48D1-A3A1-E82E10DB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7DC1-8D1C-4ED7-B604-89E64F6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7FED-F002-49D5-A86E-A9D11F5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DD0E-9426-4B5D-B905-935A6D8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2B83-DD67-4CBE-81C1-7B36E52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9398-A19D-4EA4-A328-F7695F2D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D805-1779-45A1-AE1D-E299EDB8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939-9401-4F55-B59E-42D73E9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DB4-1CBD-492D-BE38-276FD4DD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03F-78BB-4761-8348-23F94673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463-2882-4BE8-8E1F-3BE93BE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DEA-B806-4A52-9DAC-4D5BE95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790-5AC5-4E78-85A7-52778F8C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FE4-C146-4511-90FF-4300F01A54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D6EE-654F-4147-82A8-291FA37B9F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C7B-AF65-4FBE-A6BB-89EC7608CA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eri Osborne</cp:lastModifiedBy>
  <dcterms:modified xsi:type="dcterms:W3CDTF">2011-09-04T18:33:06Z</dcterms:modified>
  <cp:revision>22</cp:revision>
  <dc:subject/>
  <dc:title>Basic Issues in Environmental Science</dc:title>
</cp:coreProperties>
</file>